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9925050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6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58640" y="500040"/>
            <a:ext cx="3613320" cy="25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25520" y="3170160"/>
            <a:ext cx="72756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2164-CBDF-409E-95F6-AAE55480811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C02D-A411-46BF-B01C-D56A5FBA716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162240" y="500040"/>
            <a:ext cx="3614760" cy="2503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92160" y="3168720"/>
            <a:ext cx="7942320" cy="30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C22A-DB74-4841-AFFB-CBC17FCA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846B-9EB3-4FBA-8D52-5031B43E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52F-8B7D-48D3-9DF4-A5E074CC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B40C-85F7-465F-AEA0-F5F2EC46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C304-690D-45CB-AE21-7093A4CA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FE1-9BC2-435C-AD00-256616F0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411E-7AF1-4B72-BFB1-92991825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60D0-4AD0-41AF-BD83-BEF05580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5DA-6D7D-40DF-8DD7-6EEF735B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A9BB-8732-473E-8FB5-5D5F1FFF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BEE-8D2B-4B92-8DB6-37D4A32A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9A59-A5E7-4280-A7E4-3A20BD58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1076-41F8-4CDB-8B56-1B97438F139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D707-DBA6-47AC-BDDC-5E4A86D71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G_117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6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114800" y="5105160"/>
            <a:ext cx="5130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Presentado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Luis Ortigas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Agosto 26</a:t>
            </a: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2860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Comic Sans MS"/>
              </a:rPr>
              <a:t>El Proyecto Camise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30492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Presentación COM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656A-1966-4DC3-878E-E8A381A235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7680" y="457200"/>
            <a:ext cx="936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Precios de Etevensa y Usuarios Iniciales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7680" y="2133720"/>
            <a:ext cx="9327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4" marL="1995480" indent="-2214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tevensa    Ini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9</a:t>
            </a:r>
            <a:r>
              <a:rPr b="0" lang="es-MX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     1.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8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.78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4800600"/>
            <a:ext cx="1523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4800600"/>
            <a:ext cx="1447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6B80-9F55-4B0E-A52A-74EE9AA795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1143000"/>
          <a:ext cx="990612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906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7800" y="228600"/>
            <a:ext cx="8718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Estructura de Precios Gas Natural</a:t>
            </a:r>
            <a:br>
              <a:rPr sz="4000"/>
            </a:b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8CE7-92CD-47E0-85B1-5EE68FCD28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1295280"/>
          <a:ext cx="99061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9061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83808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Gas Natural vs. Comb. Líquidos </a:t>
            </a: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7CE3-6F2A-44B6-B0AA-ABEF9C3E66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5240" y="1504800"/>
            <a:ext cx="9410400" cy="507384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3360" y="1552680"/>
            <a:ext cx="225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94280" y="1552680"/>
            <a:ext cx="252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64320" y="1542960"/>
            <a:ext cx="234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240" y="1542960"/>
            <a:ext cx="25365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5240" y="228600"/>
            <a:ext cx="95662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Comic Sans MS"/>
              </a:rPr>
              <a:t>Beneficios del Proyecto Camis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8320" y="171468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09880" y="17334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94280" y="1695600"/>
            <a:ext cx="25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64320" y="1695600"/>
            <a:ext cx="20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180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3236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326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5240" y="2514600"/>
            <a:ext cx="222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ción del costo de 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5240" y="3389400"/>
            <a:ext cx="222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 Balanza Comercial de Hidrocar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5240" y="569736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la Inversión Extranj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240" y="469908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Industria mas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5240" y="230508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01800" y="251784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Regal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1800" y="3389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Im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14800" y="2514600"/>
            <a:ext cx="254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emisiones (CO2/SO2/NO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3541680"/>
            <a:ext cx="2487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érmica me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1800" y="4667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Aranc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32640" y="2525760"/>
            <a:ext cx="20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 para Reg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23280" y="4691160"/>
            <a:ext cx="205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nología y Transferencia de Know-h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23280" y="3389400"/>
            <a:ext cx="220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ortunidades de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150480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657864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75640" y="14922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33526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240" y="46432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5240" y="569736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77B1-5457-46D9-8C0D-5480CA3361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274320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 en Lima y Calla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A845-FCBA-446F-A92C-D78D7090BC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2209680"/>
            <a:ext cx="71816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cial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evensa (TOP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s (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icionales a la POC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do al 10</a:t>
            </a:r>
            <a:r>
              <a:rPr b="1" lang="en-US" sz="3200" spc="-1" strike="noStrike" baseline="4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2680" y="5029200"/>
            <a:ext cx="92948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s suscritos antes de otorgar la buena pro para la explotación en enero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C = Puesta en Operación Comercial (agosto 200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do adicional estim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do seg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Estudio de Mercado de Stone &amp; Webster 199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 transferido de Electrop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OP de 80%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2209680"/>
            <a:ext cx="304920" cy="1752840"/>
          </a:xfrm>
          <a:custGeom>
            <a:avLst/>
            <a:gdLst>
              <a:gd name="textAreaLeft" fmla="*/ 0 w 304920"/>
              <a:gd name="textAreaRight" fmla="*/ 11016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514600"/>
            <a:ext cx="20574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erc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7387-A111-44BB-A90C-EDDB45531F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43040" y="1981080"/>
          <a:ext cx="8420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981080"/>
                    <a:ext cx="8420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914400" y="181296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626436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ente: Estudio T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ico y de Demanda, Stone &amp; Webster, nov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71EE-871A-4853-8A5D-ECE813FE87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280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cc"/>
                </a:solidFill>
                <a:latin typeface="Comic Sans MS"/>
              </a:rPr>
              <a:t>Demanda estimada de G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2440" y="1371600"/>
          <a:ext cx="97408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" y="1371600"/>
                    <a:ext cx="97408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010280" y="63244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Apo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CFD3-BDB6-4C39-8EC7-D830E8E452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8229600" y="624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 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645-D961-4475-8B6B-F8A68B068C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2680" y="2437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Economí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7FEC-4EC8-4C9B-8F53-27321ED3A7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En Qué Consiste El Desarrollo Del Proyecto Camise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3040" y="2397240"/>
            <a:ext cx="8705880" cy="95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1. Explota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l Lote 88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3040" y="3657600"/>
            <a:ext cx="8705880" cy="1330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ransporte de Gas Natural y 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do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 Gas Natural de Camisea a la Cos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3040" y="5292720"/>
            <a:ext cx="8705880" cy="1219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 Gas Natural en Lim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y Calla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AC7C-CBBB-401B-992A-9087CBCE64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Paráme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90560"/>
            <a:ext cx="457200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cimiento de la dema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5% entre 2004 -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0% entre 2010 - 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% entre 2015 - 20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% a partir de 2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ecios de cru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6 US$Bb 2004 –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3 2006 –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 a partir d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 de descuento: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galías: 37.2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1676520"/>
            <a:ext cx="4572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on: 50% de Regal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nta L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08 Inicio de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25 MMPCD de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 año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GN con PVR de US$ 0.53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ser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3 TCF de 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730 MMBB de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C2F6-4051-423B-ADB7-0576B096AE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FEB-E887-4FEC-9C83-ED3DF1EC55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0"/>
            <a:ext cx="9296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6600ff"/>
                </a:solidFill>
                <a:latin typeface="Comic Sans MS"/>
              </a:rPr>
              <a:t>Ventas, Ingresos, Regalías y Cano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6600ff"/>
                </a:solidFill>
                <a:latin typeface="Comic Sans MS"/>
              </a:rPr>
              <a:t>Mercado Local y Exportació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609588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ercado Local: 40 años         Proyecto Exportación LNG: 20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447920"/>
          <a:ext cx="990612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9061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0DAA-7DED-4E5F-88B3-E7DB6E4DD2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CBD1-CDE8-4AC4-BE88-5AC63EAD5D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95360" y="684360"/>
            <a:ext cx="67485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ff"/>
                </a:solidFill>
                <a:latin typeface="Comic Sans MS"/>
              </a:rPr>
              <a:t>Algo bueno ha llegado…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95360" y="1974960"/>
            <a:ext cx="4044960" cy="3711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40320" y="2362320"/>
            <a:ext cx="363204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808080"/>
                </a:solidFill>
                <a:latin typeface="Arial"/>
              </a:rPr>
              <a:t>Una oportunidad para mejorar la economía y la calidad de vida de los peru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200" spc="-1" strike="noStrike">
                <a:solidFill>
                  <a:srgbClr val="2c8659"/>
                </a:solidFill>
                <a:latin typeface="Comic Sans MS"/>
              </a:rPr>
              <a:t>Camise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756560" y="0"/>
            <a:ext cx="2149560" cy="2666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197920" y="4924440"/>
            <a:ext cx="1708200" cy="19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FDD-703F-4F0B-A674-028689DD50B2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ff"/>
                </a:solidFill>
                <a:latin typeface="Comic Sans MS"/>
              </a:rPr>
              <a:t>Uso Potencial del Gas Natu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Industrial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por para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Mine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alurg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inación de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umo para Hierro Espo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Residen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otriz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GN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andes Proyectos de Export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troquí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eneración de Energía Eléct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B06-383C-4579-832E-709D4F82EC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83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(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560" y="190476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y utilización de un recurso natural de gran magnit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a Balanza Comercial deficitaria de Hidrocarbu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cia la reactivación de un frente de exploración en l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v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entral y el desarrollo reg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diversificación de fuentes energéticas a menores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D76B-9C16-4876-8C91-1FB4B03A1312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533160"/>
            <a:ext cx="908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ii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0240" y="1905120"/>
            <a:ext cx="8668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a fuentes de ingresos para 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tado y la Reg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 puestos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de nuevas industrias: LNG, Petroquímica,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, Hierro Esponja, entre ot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ibuye a la mejora del medio ambiente al reemplazar combustibles contam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8B2-8E74-46CD-A5A8-1EA4BABF5C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904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Balanza Comercial de Hidrocarburos</a:t>
            </a:r>
            <a:br>
              <a:rPr sz="3900"/>
            </a:b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1981–2002 (Millones US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30120" y="1523880"/>
          <a:ext cx="8998200" cy="503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523880"/>
                    <a:ext cx="899820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6E0F-3E3A-4AA4-BD59-752C5B93A6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920" y="380880"/>
            <a:ext cx="8826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ff"/>
                </a:solidFill>
                <a:latin typeface="Comic Sans MS"/>
              </a:rPr>
              <a:t>Impacto de Camisea sobre la Balanza Comercial de Hidrocarburos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2920" y="1828800"/>
            <a:ext cx="9162720" cy="4906800"/>
            <a:chOff x="412920" y="1828800"/>
            <a:chExt cx="9162720" cy="49068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412920" y="1828800"/>
              <a:ext cx="9162720" cy="49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71600" y="1828800"/>
              <a:ext cx="7086600" cy="762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133720" y="18288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Millones US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7F2D-6C1E-4DB6-9898-52A0F4D172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666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Comic Sans MS"/>
              </a:rPr>
              <a:t>Prec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5E0-2D44-40F0-ABCD-E43E7937B8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6400" y="228600"/>
            <a:ext cx="9122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Precios Máximos del Gas Natural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7680" y="1523880"/>
            <a:ext cx="93279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4" marL="2036520" indent="-226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ector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éctrico    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a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c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94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3.14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a)   Precios máximos según Contrato de Licencia. Se ajustan anualmente según una canasta de fuel oi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b)   Tarifas aplicables oficiales. Tienden a igualarse ambas tarifas hacia 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  Cuzco tend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e precio para otros usu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4191120"/>
            <a:ext cx="1143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67480" y="4191120"/>
            <a:ext cx="10670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2B2F-02AF-44F0-BF92-35E91AA23E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14:35:48Z</dcterms:created>
  <dc:creator>Luis Ortigas C.</dc:creator>
  <dc:description>Presentación UQAM 14 mayo 2004</dc:description>
  <dc:language>en-US</dc:language>
  <cp:lastModifiedBy>Luis E. Ortigas</cp:lastModifiedBy>
  <cp:lastPrinted>2002-02-06T13:51:36Z</cp:lastPrinted>
  <dcterms:modified xsi:type="dcterms:W3CDTF">2004-08-24T18:49:53Z</dcterms:modified>
  <cp:revision>755</cp:revision>
  <dc:subject/>
  <dc:title>EL PROYECTO CAMISEA</dc:title>
</cp:coreProperties>
</file>